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0CE-4334-4568-B8A9-CBC9AFF2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29F3-1148-44A2-95C7-F9367AB9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0106-48A4-4B75-9407-58290E1E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ABD-625D-4E40-88DA-4073E1EE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BE8D-20B5-4CAF-884C-34CCCDD6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872-B1EB-480F-847D-07204157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650-B9A4-479D-B095-0F4C421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F7C-535F-4145-B815-2DC54A09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1FEF-F9EC-4A31-AED1-752B2049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390-662F-4D1F-A7EC-5AA09646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E75B-E15A-47D8-B707-38C5D48F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ECB-F5F9-40A4-AD35-1754C8E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E2D2-991B-4D37-9EE8-AF4D296AD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ัด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404640" y="5097240"/>
            <a:ext cx="27561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84120" y="556668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ite   bit   bitten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ก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5326200" y="941400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2560" y="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4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8488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628640" y="272880"/>
            <a:ext cx="4030920" cy="3729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1557360" y="6381720"/>
            <a:ext cx="3672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41360" y="402912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ร้าง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404280" y="4952880"/>
            <a:ext cx="2808360" cy="2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333360" y="545724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uild   built   buil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สร้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5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25360" y="576360"/>
            <a:ext cx="4570560" cy="3470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255680" y="6392880"/>
            <a:ext cx="403236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317600" y="4118040"/>
            <a:ext cx="4319640" cy="64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ผ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71160" y="5600160"/>
            <a:ext cx="611964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burn   burnt   burn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เผ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s_img" descr="Slideshow image"/>
          <p:cNvPicPr/>
          <p:nvPr/>
        </p:nvPicPr>
        <p:blipFill>
          <a:blip r:embed="rId1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68" name="ss_img" descr="Slideshow image"/>
          <p:cNvPicPr/>
          <p:nvPr/>
        </p:nvPicPr>
        <p:blipFill>
          <a:blip r:embed="rId2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341360" y="631800"/>
            <a:ext cx="4319640" cy="3346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243080" y="6392880"/>
            <a:ext cx="4032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28640" y="415800"/>
            <a:ext cx="4097520" cy="3667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17600" y="4130640"/>
            <a:ext cx="4319640" cy="64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………..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ับ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50080" y="0"/>
            <a:ext cx="907920" cy="488880"/>
          </a:xfrm>
          <a:prstGeom prst="rect">
            <a:avLst/>
          </a:prstGeom>
          <a:solidFill>
            <a:srgbClr val="cc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404280" y="5097240"/>
            <a:ext cx="2808360" cy="215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© </a:t>
            </a:r>
            <a:r>
              <a:rPr b="0" lang="en-US" sz="1200" spc="-1" strike="noStrike">
                <a:solidFill>
                  <a:srgbClr val="ffffff"/>
                </a:solidFill>
                <a:latin typeface="Comix Regular Caps"/>
              </a:rPr>
              <a:t>2007 Self-Access Learning Centre, KMU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404640" y="5600160"/>
            <a:ext cx="6120000" cy="647640"/>
          </a:xfrm>
          <a:prstGeom prst="rect">
            <a:avLst/>
          </a:prstGeom>
          <a:noFill/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ITC Avant Garde Gothic Demi"/>
                <a:ea typeface="Tahoma"/>
              </a:rPr>
              <a:t>catch   caught   caught     </a:t>
            </a:r>
            <a:r>
              <a:rPr b="0" lang="th-TH" sz="3200" spc="-1" strike="noStrike">
                <a:solidFill>
                  <a:srgbClr val="a50021"/>
                </a:solidFill>
                <a:latin typeface="ITC Avant Garde Gothic Demi"/>
                <a:cs typeface="Tahoma"/>
              </a:rPr>
              <a:t>จั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5297040" y="9414000"/>
            <a:ext cx="90828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1360" y="0"/>
            <a:ext cx="907920" cy="488880"/>
          </a:xfrm>
          <a:prstGeom prst="rect">
            <a:avLst/>
          </a:prstGeom>
          <a:solidFill>
            <a:srgbClr val="0000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ss_img" descr="Slideshow image"/>
          <p:cNvPicPr/>
          <p:nvPr/>
        </p:nvPicPr>
        <p:blipFill>
          <a:blip r:embed="rId2"/>
          <a:stretch/>
        </p:blipFill>
        <p:spPr>
          <a:xfrm>
            <a:off x="122400" y="47520"/>
            <a:ext cx="502920" cy="501840"/>
          </a:xfrm>
          <a:prstGeom prst="rect">
            <a:avLst/>
          </a:prstGeom>
          <a:ln w="0">
            <a:noFill/>
          </a:ln>
        </p:spPr>
      </p:pic>
      <p:pic>
        <p:nvPicPr>
          <p:cNvPr id="79" name="ss_img" descr="Slideshow image"/>
          <p:cNvPicPr/>
          <p:nvPr/>
        </p:nvPicPr>
        <p:blipFill>
          <a:blip r:embed="rId3"/>
          <a:stretch/>
        </p:blipFill>
        <p:spPr>
          <a:xfrm rot="10800000">
            <a:off x="6256440" y="9366120"/>
            <a:ext cx="503280" cy="501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557360" y="6473880"/>
            <a:ext cx="35989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8:51:53Z</dcterms:created>
  <dc:creator>iLLuSioN</dc:creator>
  <dc:description/>
  <dc:language>en-US</dc:language>
  <cp:lastModifiedBy>Aj_Shannoy</cp:lastModifiedBy>
  <dcterms:modified xsi:type="dcterms:W3CDTF">2010-03-08T06:26:47Z</dcterms:modified>
  <cp:revision>56</cp:revision>
  <dc:subject/>
  <dc:title>ภาพนิ่ง 1</dc:title>
</cp:coreProperties>
</file>