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72B-DCBA-460E-A932-B2EBF319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AAB-FEB8-4FBD-B7A6-30EA58C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AD8-5448-47FF-832C-233F4A88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B41-5A49-44B0-8B6E-C6EE5832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997-6985-475A-9DCE-F012DB1C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C46-A6C9-4AA9-838F-7A08BAB9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149-BFB3-456D-80FE-52622226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D92-0FA9-4007-80A1-A24E0EC1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2E2-136D-47DF-9423-77D0B79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04F-55D2-4DC4-9242-38D93390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61F-4CE8-4F11-AC91-A8C3944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28E-8F7A-4DF8-A006-5E6100A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0142-7FC2-4CBD-AFC2-65065229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640" y="5097240"/>
            <a:ext cx="27561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84120" y="5566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ite   bit   b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326200" y="941400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2560" y="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8488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030920" cy="3729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81720"/>
            <a:ext cx="3672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291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4952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ild   built   bui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25360" y="576360"/>
            <a:ext cx="4570560" cy="347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55680" y="6392880"/>
            <a:ext cx="4032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17600" y="411804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71160" y="560016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rn   burnt   burn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41360" y="631800"/>
            <a:ext cx="4319640" cy="334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43080" y="6392880"/>
            <a:ext cx="4032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28640" y="415800"/>
            <a:ext cx="4097520" cy="3667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atch   caught   ca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557360" y="6473880"/>
            <a:ext cx="3598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6:26:47Z</dcterms:modified>
  <cp:revision>56</cp:revision>
  <dc:subject/>
  <dc:title>ภาพนิ่ง 1</dc:title>
</cp:coreProperties>
</file>