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799763" cy="71993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F7E-1237-484C-87BB-97FC893F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904-ACD4-4EDB-8A10-F628D0B7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7AF-0D30-40E3-A91C-4A56DEE1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245-2668-4A2E-95FF-A53A82C4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AF3-7511-4BD6-A229-9942A721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C21-7E4C-45A8-8FBA-3F2CB129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B14-5EAE-4901-82FF-8153CFB6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460-7B06-4DEE-8D0E-9D0D4237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F4ED-AAB7-4C2F-8381-5385239D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C73-9B5D-4AC1-AD63-D05C87AA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7B7-AA89-4960-83BA-EBFC16F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F68-0042-4FB7-BD99-17B1F093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557760"/>
            <a:ext cx="25210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th-TH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557760"/>
            <a:ext cx="341928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557760"/>
            <a:ext cx="2520720" cy="500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fld id="{3AA71E69-0FD9-4F73-86F0-B8657498B71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45080" y="5905440"/>
            <a:ext cx="4826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elf-access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y Self-access Learning Centre, KMU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78560" y="6769080"/>
            <a:ext cx="33847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pyright © 2011 Self-access Learning Centre, KMU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6360" y="863640"/>
            <a:ext cx="48243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ading Strategies’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985080" y="2305080"/>
            <a:ext cx="18810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360" y="456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44640" y="1469880"/>
            <a:ext cx="3559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000" y="720720"/>
            <a:ext cx="1222560" cy="122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985080" y="4169880"/>
            <a:ext cx="2485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alibri"/>
                <a:cs typeface="Cordia New"/>
              </a:rPr>
              <a:t>บทเรียนในชุด</a:t>
            </a:r>
            <a:r>
              <a:rPr b="1" lang="th-TH" sz="1000" spc="-1" strike="noStrike">
                <a:solidFill>
                  <a:srgbClr val="000000"/>
                </a:solidFill>
                <a:latin typeface="Calibri"/>
                <a:ea typeface="Cordia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‘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Reading Strategies’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alibri"/>
                <a:cs typeface="Cordia New"/>
              </a:rPr>
              <a:t>ได้แก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1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label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2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joke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3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photo caption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4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aying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5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dvertisement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6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movie review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7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n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8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rticles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SimSun"/>
              </a:rPr>
              <a:t>No.9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hort st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108160"/>
            <a:ext cx="302436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Reading Strategies’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a set of self-study materials. It is composed of 9 units. Each unit is specially designed to be used as self-study materials by the learn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Learning focus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This set of materials introduces 9 useful reading strategies e.g. reading labels, reading jokes, and 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ordia New"/>
              </a:rPr>
              <a:t>eading photo captions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which you can use to increase your reading skill. And in order to help you organize your learning, a ‘learning record’, an effective tool for keeping track of your learning, is introduc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720" y="792000"/>
            <a:ext cx="216036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Calibri"/>
                <a:ea typeface="Cordia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About this se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ordia New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4720" y="5562000"/>
            <a:ext cx="25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How to use this set of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1.  Choose a topic of your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2.  Before studying, rea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instructions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13440" y="657000"/>
            <a:ext cx="3384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The following is the list of materials in the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‘Reading Strategies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se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1      Reading label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2      Reading joke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3      Reading photo caption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4      Reading sayin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5      Reading advertisement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6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movie review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7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ne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8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articles</a:t>
            </a:r>
            <a:r>
              <a:rPr b="0" i="1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SimSun"/>
              </a:rPr>
              <a:t>No.9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ordia New"/>
              </a:rPr>
              <a:t>Reading short s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2000" y="1931760"/>
            <a:ext cx="136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‘</a:t>
            </a:r>
            <a:r>
              <a:rPr b="1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Reading Strategies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ป็นสื่อการเรียนรู้แบบพึ่งตนเอง ประกอบไปด้วยบทเรีย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9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บทเรียนซึ่งถูกออกแบบมาโดยเฉพาะเพื่อให้ผู้เรียนสามารถศึกษาได้ด้วยตนเอ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2000" y="2927520"/>
            <a:ext cx="1368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วัตถุประสงค์ของชุด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ชุดเรียนนี้นำเสนอกลยุทธ์การอ่าน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9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ลยุทธ์ เช่น การอ่านฉลาก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,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ขำขัน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,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อ่านคำบรรยายภาพ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ซึ่งคุณสามารถใช้ในการเพิ่มพูนทักษะการอ่านของคุณ และเพื่อช่วยให้คุณจัดระบบการเรียนรู้ ชุดบทเรียนนี้ยังแนะนำ 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‘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learning record’ (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แผ่นบันทึกการเรียนรู้</a:t>
            </a: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)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ซึ่งเป็นเครื่องมือช่วยในการเก็บข้อมูลการเรียนรู้คำศัพท์ของคุณได้อย่างมีประสิทธิภา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72000" y="5545080"/>
            <a:ext cx="136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การใช้บทเรีย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dia New"/>
                <a:ea typeface="SimSun"/>
              </a:rPr>
              <a:t>1. 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หัวข้อที่สนใ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2.  </a:t>
            </a:r>
            <a:r>
              <a:rPr b="0" lang="th-TH" sz="1000" spc="-1" strike="noStrike">
                <a:solidFill>
                  <a:srgbClr val="000000"/>
                </a:solidFill>
                <a:latin typeface="Cordia New"/>
                <a:cs typeface="Cordia New"/>
              </a:rPr>
              <a:t>อ่านคำแนะนำอย่างละเอียด</a:t>
            </a:r>
            <a:br>
              <a:rPr sz="1000"/>
            </a:br>
            <a:r>
              <a:rPr b="0" lang="th-TH" sz="1000" spc="-1" strike="noStrike">
                <a:solidFill>
                  <a:srgbClr val="000000"/>
                </a:solidFill>
                <a:latin typeface="Cordia New"/>
                <a:ea typeface="Cordia New"/>
              </a:rPr>
              <a:t>     ก่อนทำการศึกษ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x</cp:lastModifiedBy>
  <dcterms:modified xsi:type="dcterms:W3CDTF">2012-09-28T22:53:02Z</dcterms:modified>
  <cp:revision>1515</cp:revision>
  <dc:subject/>
  <dc:title>Slide 1</dc:title>
</cp:coreProperties>
</file>