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544-5AC0-43CD-8719-4A61CB20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4D8-A46F-454E-B8C5-321D27F9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540-ABEE-45FE-8395-D876F76E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FAE-EA5F-42C5-A1DE-01680FDE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482-1548-4288-A292-560ECBC7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C07-22D9-484C-8F02-B8E8ABB3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0F0-0DD5-4B9D-A560-587A877D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86D-FC75-4A20-98DF-1D024882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C0B-BEE4-4480-84FA-E40BC1DC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53C-B988-48A5-926C-79679CB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685-EBFF-44A6-AC70-6F3A51FB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B65-3F98-44D2-BA51-A9CF74D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th-TH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fld id="{5A401942-EE74-44DD-928B-74B4A9101C2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45080" y="5905440"/>
            <a:ext cx="4826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elf-access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y Self-access Learning Centre, KMU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78560" y="6769080"/>
            <a:ext cx="3384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11 Self-access Learning Centre, KMU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6360" y="863640"/>
            <a:ext cx="4824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ading Strategies’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85080" y="2305080"/>
            <a:ext cx="1881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44640" y="1469880"/>
            <a:ext cx="355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000" y="720720"/>
            <a:ext cx="1222560" cy="122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85080" y="4169880"/>
            <a:ext cx="2485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alibri"/>
                <a:cs typeface="Cordia New"/>
              </a:rPr>
              <a:t>บทเรียนในชุด</a:t>
            </a:r>
            <a:r>
              <a:rPr b="1" lang="th-TH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‘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Reading Strategies’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alibri"/>
                <a:cs typeface="Cordia New"/>
              </a:rPr>
              <a:t>ได้แก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1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label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2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joke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3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photo caption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4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aying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5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dvertisement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6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movie review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7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n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8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rticle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9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hort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108160"/>
            <a:ext cx="302436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Reading Strategies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a set of self-study materials. It is composed of 9 units. Each unit is specially designed to be used as self-study materials by the learn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Learning focu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This set of materials introduces 9 useful reading strategies e.g. reading labels, reading jokes, and 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ading photo captions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which you can use to increase your reading skill. And in order to help you organize your learning, a ‘learning record’, an effective tool for keeping track of your learning, is int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720" y="792000"/>
            <a:ext cx="21603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alibri"/>
                <a:ea typeface="Cordia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About this se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4720" y="5562000"/>
            <a:ext cx="25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How to use this set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1.  Choose a topic of your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2.  Before studying, rea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instructions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13440" y="657000"/>
            <a:ext cx="3384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The following is the list of materials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‘Reading Strategies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s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1      Reading label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2      Reading joke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3      Reading photo caption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4      Reading sayin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5      Reading advertisement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6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movie review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7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n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8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rticle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9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hort s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2000" y="1931760"/>
            <a:ext cx="136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‘</a:t>
            </a: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Reading Strategies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สื่อการเรียนรู้แบบพึ่งตนเอง ประกอบไปด้วยบทเรีย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9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บทเรียนซึ่งถูกออกแบบมาโดยเฉพาะเพื่อให้ผู้เรียนสามารถศึกษาได้ด้วยตนเ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2000" y="2927520"/>
            <a:ext cx="1368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ตถุประสงค์ของชุด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ุดเรียนนี้นำเสนอกลยุทธ์การอ่าน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9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ลยุทธ์ เช่น การอ่านฉลาก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,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ขำขั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,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คำบรรยาย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ซึ่งคุณสามารถใช้ในการเพิ่มพูนทักษะการอ่านของคุณ และเพื่อช่วยให้คุณจัดระบบการเรียนรู้ ชุดบทเรียนนี้ยังแนะนำ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‘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learning record’ (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ผ่นบันทึกการเรียนรู้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ซึ่งเป็นเครื่องมือช่วยในการเก็บข้อมูลการเรียนรู้คำศัพท์ของคุณได้อย่างมีประสิทธิภา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72000" y="5545080"/>
            <a:ext cx="136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บท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1. 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หัวข้อที่สน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2. 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แนะนำอย่างละเอียด</a:t>
            </a:r>
            <a:br>
              <a:rPr sz="1000"/>
            </a:b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    ก่อนทำการศึกษ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x</cp:lastModifiedBy>
  <dcterms:modified xsi:type="dcterms:W3CDTF">2012-09-28T22:53:02Z</dcterms:modified>
  <cp:revision>1515</cp:revision>
  <dc:subject/>
  <dc:title>Slide 1</dc:title>
</cp:coreProperties>
</file>