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DB69-4EF8-434D-B894-588714B7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908-DB6B-444D-9D04-A63CD90D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EE2-D1CC-4E41-B071-DF8D4008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9010-DBBF-4BB8-953E-78243155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930-B275-4038-85A9-F51A3899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45D4-C61B-45EF-AE9C-54A52512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B79-1436-4C66-8241-1EBB01E0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6DF-1C85-49F3-8866-6D2B01CB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E22-8628-4EA7-B5A0-70D0E40A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B1D-1A28-4651-9277-B58B764A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259-5F7B-409D-8895-822A05FC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59F-3809-44BC-80E9-4CDB52DC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th-TH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5F1169E7-39E3-4FAE-964F-FEBE3B908B80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45080" y="5905440"/>
            <a:ext cx="4826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elf-access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y Self-access Learning Centre, KM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78560" y="6769080"/>
            <a:ext cx="338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11 Self-access Learning Centre, KMU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6360" y="863640"/>
            <a:ext cx="4824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ading Strategies’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85080" y="2305080"/>
            <a:ext cx="1881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44640" y="1469880"/>
            <a:ext cx="355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000" y="720720"/>
            <a:ext cx="1222560" cy="122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85080" y="4169880"/>
            <a:ext cx="2485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alibri"/>
                <a:cs typeface="Cordia New"/>
              </a:rPr>
              <a:t>บทเรียนในชุด</a:t>
            </a:r>
            <a:r>
              <a:rPr b="1" lang="th-TH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‘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Reading Strategies’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alibri"/>
                <a:cs typeface="Cordia New"/>
              </a:rPr>
              <a:t>ได้แก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1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label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2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joke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3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photo caption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4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aying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5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dvertisement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6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movie review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7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n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8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rticle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9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hort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108160"/>
            <a:ext cx="302436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Reading Strategies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a set of self-study materials. It is composed of 9 units. Each unit is specially designed to be used as self-study materials by the learn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Learning focu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This set of materials introduces 9 useful reading strategies e.g. reading labels, reading jokes, and 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ading photo captions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which you can use to increase your reading skill. And in order to help you organize your learning, a ‘learning record’, an effective tool for keeping track of your learning, is int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720" y="792000"/>
            <a:ext cx="21603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alibri"/>
                <a:ea typeface="Cordia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About this se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4720" y="5562000"/>
            <a:ext cx="25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How to use this set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1.  Choose a topic of your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2.  Before studying, rea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instructions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13440" y="657000"/>
            <a:ext cx="3384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he following is the list of materials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‘Reading Strategies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s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1      Reading label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2      Reading joke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3      Reading photo caption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4      Reading say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5      Reading advertisement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6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movie review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7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n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8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rticle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9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hort s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2000" y="1931760"/>
            <a:ext cx="136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Reading Strategies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สื่อการเรียนรู้แบบพึ่งตนเอง ประกอบไปด้วยบทเรีย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9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บทเรียนซึ่งถูกออกแบบมาโดยเฉพาะเพื่อให้ผู้เรียนสามารถศึกษาได้ด้วยตนเ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2000" y="2927520"/>
            <a:ext cx="1368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ตถุประสงค์ของชุด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ุดเรียนนี้นำเสนอกลยุทธ์การอ่าน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9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ลยุทธ์ เช่น การอ่านฉลาก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,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ขำขั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,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คำบรรยาย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ซึ่งคุณสามารถใช้ในการเพิ่มพูนทักษะการอ่านของคุณ และเพื่อช่วยให้คุณจัดระบบการเรียนรู้ ชุดบทเรียนนี้ยังแนะนำ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‘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learning record’ (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ผ่นบันทึกการเรียนรู้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ซึ่งเป็นเครื่องมือช่วยในการเก็บข้อมูลการเรียนรู้คำศัพท์ของคุณได้อย่างมีประสิทธิ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2000" y="5545080"/>
            <a:ext cx="136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บท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1. 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ส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2. 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แนะนำอย่างละเอียด</a:t>
            </a:r>
            <a:br>
              <a:rPr sz="1000"/>
            </a:b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    ก่อนทำการศึกษ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x</cp:lastModifiedBy>
  <dcterms:modified xsi:type="dcterms:W3CDTF">2012-09-28T22:53:02Z</dcterms:modified>
  <cp:revision>1515</cp:revision>
  <dc:subject/>
  <dc:title>Slide 1</dc:title>
</cp:coreProperties>
</file>