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2AA-F2A5-4C36-A11F-0EFAD7E8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903-140F-4001-B840-CAF724DA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284-C353-47C4-A753-09A1F498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432-D76A-45DE-8836-FE89144F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247-9F8E-4CE0-BCAB-85A1B7F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E40-F093-4441-A880-D49D385A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2F3-1C5C-45F8-BD78-7761527D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0C5-B5E5-4801-BAA0-0B5B472F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FC6-0BA0-4B12-B015-B54D388D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549-F295-4499-A3A5-745D82F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8E0-7FBD-494C-8D60-DC2E017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D6A-CEA6-4FFF-B9E8-71C8B5E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th-TH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7C293740-B4E4-4409-AC1D-1138C5A8D00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5080" y="5905440"/>
            <a:ext cx="482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elf-access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y Self-access Learning Centre, KM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78560" y="6769080"/>
            <a:ext cx="338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11 Self-access Learning Centre, KMU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6360" y="863640"/>
            <a:ext cx="4824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ing Strategies’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85080" y="2305080"/>
            <a:ext cx="1881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44640" y="1469880"/>
            <a:ext cx="355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000" y="720720"/>
            <a:ext cx="1222560" cy="122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85080" y="4169880"/>
            <a:ext cx="2485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บทเรียนในชุด</a:t>
            </a:r>
            <a:r>
              <a:rPr b="1" lang="th-TH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ได้แก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1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label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2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jok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3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photo caption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4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5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dvertisement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108160"/>
            <a:ext cx="3024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a set of self-study materials. It is composed of 9 units. Each unit is specially designed to be used as self-study materials by the lear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Learning focu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This set of materials introduces 9 useful reading strategies e.g. reading labels, reading jokes, and 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ading photo captions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which you can use to increase your reading skill. And in order to help you organize your learning, a ‘learning record’, an effective tool for keeping track of your learning, is int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792000"/>
            <a:ext cx="2160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About this se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720" y="5562000"/>
            <a:ext cx="25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How to use this set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1.  Choose a topic of you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2.  Before studying, rea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nstructions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13440" y="657000"/>
            <a:ext cx="3384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he following is the list of materials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Reading Strategies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s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1      Reading label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2      Reading jok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3      Reading photo caption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4      Reading say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5      Reading advertisement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2000" y="1931760"/>
            <a:ext cx="136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Reading Strategies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สื่อการเรียนรู้แบบพึ่งตนเอง ประกอบไปด้วยบทเรีย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บทเรียนซึ่งถูกออกแบบมาโดยเฉพาะเพื่อให้ผู้เรียนสามารถศึกษาได้ด้วยตนเ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2000" y="2927520"/>
            <a:ext cx="136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ตถุประสงค์ของชุด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ุดเรียนนี้นำเสนอกลยุทธ์การอ่าน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ลยุทธ์ เช่น การอ่านฉลาก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ขำขั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คุณสามารถใช้ในการเพิ่มพูนทักษะการอ่านของคุณ และเพื่อช่วยให้คุณจัดระบบการเรียนรู้ ชุดบทเรียนนี้ยังแนะนำ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learning record’ (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่นบันทึกการเรียนรู้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เป็นเครื่องมือช่วยในการเก็บข้อมูลการเรียนรู้คำศัพท์ของคุณได้อย่างมีประสิทธิ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2000" y="5545080"/>
            <a:ext cx="136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บท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1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ส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2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แนะนำอย่างละเอียด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   ก่อนทำการศึก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x</cp:lastModifiedBy>
  <dcterms:modified xsi:type="dcterms:W3CDTF">2012-09-28T22:53:02Z</dcterms:modified>
  <cp:revision>1515</cp:revision>
  <dc:subject/>
  <dc:title>Slide 1</dc:title>
</cp:coreProperties>
</file>